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9738-9C1D-442F-99C8-B5F5CB2D6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6500-1E51-4DF8-9189-546FC0798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6036-CFE6-4291-BE3F-5920063E0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0AA1-D99D-4D16-8F86-9269705A9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6486A-66AE-44C7-A337-721C75FD4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5CC91-C77B-49AF-9A8A-E6F60A6D5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84C91-646B-4E86-97FE-1A6634BA6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2AA24-5CC0-4510-BC2A-0E143EA11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1BEED-4170-4238-89AC-096BBD333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F6DD4-54E8-4957-BFCB-E7DB0DD1A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E8930-FC92-4AE7-9A0B-46E065B4A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CDED-BC55-4793-9DCB-DE1BCE0DF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7D96B-45D8-4BE1-806F-A0F70BBE2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CDE6D-E0D9-4071-8E5A-21E18CE10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10F0F-01A3-4319-9DD7-B1AE6A86A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A6AAE-F632-4703-85B0-41133DAF0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70C7C-4A98-4B2A-82B2-E61A247C0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503F-4A07-456B-A9F9-EB213AA6D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AA8D-2D0F-4DC2-B587-CA5FC2D30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4490-8B71-42E6-8BDD-AF4883BDC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74E5-7835-4F3A-851A-3B2DFAEC1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BC19-737F-4DBD-B6D6-9DEB37CD6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82D1-9465-4078-B3D9-E28BF7CE4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4F29-BE71-4FA6-B77E-81A99B614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2FC1B-E0F1-4AAB-8FF2-E5C0B2A68B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05BAE-B484-4333-A283-A812E8B0C8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11</a:t>
            </a: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장 지체장애아 교육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정의 및 분류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미국 공법에 의한 지체장애의 정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형외과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경학적 손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하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편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디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단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삼지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더블 헤미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의 정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최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뇌성마비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체장애 중 가장 높은 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이상과 관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적 능력의 다양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가 장애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장애와 함께 지능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 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성마비의 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직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50-6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긴장이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수의 운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25-3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의 대근육 통제 문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실조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1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 조정의 어려움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기타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분척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진행성 근위축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골형성 부전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척수 손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간질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대발작과 소발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심리요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작기록 양식의 예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간질에 대한 대처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관찰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컴퓨터 보조 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Any Questions??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411280" y="1916280"/>
            <a:ext cx="4248360" cy="38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8T16:46:33Z</dcterms:created>
  <dc:creator>.</dc:creator>
  <dc:description/>
  <dc:language>en-US</dc:language>
  <cp:lastModifiedBy>f</cp:lastModifiedBy>
  <dcterms:modified xsi:type="dcterms:W3CDTF">2007-05-17T01:34:04Z</dcterms:modified>
  <cp:revision>14</cp:revision>
  <dc:subject/>
  <dc:title>제 11장 전환교육</dc:title>
</cp:coreProperties>
</file>